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153-F0CF-4759-8BBE-89BF68C6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5F8-520F-4CCD-886E-A511F42F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191-1331-4526-88EE-7A3AD012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CD3-541D-414F-9A4B-A6153677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AAB-653C-4C5A-BDCF-74776FE1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3000" y="198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062-39B1-44E6-9C56-69C832AC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087-5283-4E52-8539-7DD4426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581-C3B0-48CC-A139-677A78D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773-F39A-4FC8-AAA5-18314ADC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2C4-699E-4223-A4EA-91CDC219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9E6-218D-43FA-9B3A-EF0B43E1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402-2C98-441A-9D5F-0E9F515F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198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fc50fc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fc50fc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c50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c50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fc50fc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fc5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5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fc50fc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fc50fc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c50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c50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9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20F-A01E-46E5-890D-9E3CBDC3A83C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3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4ED3-E510-4706-841C-EDDECC4615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1069;&#35328;.ppt#1. &#35745;&#31639;&#26426;&#25991;&#21270;&#22522;&#30784;&#25945;&#31243; (Windows 98+Office 2000&#29256;)" TargetMode="External"/><Relationship Id="rId2" Type="http://schemas.openxmlformats.org/officeDocument/2006/relationships/hyperlink" Target="file:///&#21069;&#35328;.ppt#1. &#35745;&#31639;&#26426;&#25991;&#21270;&#22522;&#30784;&#25945;&#31243; (Windows 98+Office 2000&#29256;)" TargetMode="External"/><Relationship Id="rId3" Type="http://schemas.openxmlformats.org/officeDocument/2006/relationships/hyperlink" Target="file:///&#21069;&#35328;.ppt#1. &#35745;&#31639;&#26426;&#25991;&#21270;&#22522;&#30784;&#25945;&#31243; (Windows 98+Office 2000&#29256;)" TargetMode="External"/><Relationship Id="rId4" Type="http://schemas.openxmlformats.org/officeDocument/2006/relationships/hyperlink" Target="file:///&#21069;&#35328;.ppt#1. &#35745;&#31639;&#26426;&#25991;&#21270;&#22522;&#30784;&#25945;&#31243; (Windows 98+Office 2000&#29256;)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5745;&#31639;&#26426;&#22522;&#30784;&#30693;&#35782;.ppt#1. &#31532;1&#31456;    &#35745;&#31639;&#26426;&#22522;&#30784;&#30693;&#35782;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2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3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4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5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6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7" Type="http://schemas.openxmlformats.org/officeDocument/2006/relationships/hyperlink" Target="file:///&#31532;2&#31456;%20%20%20%20&#20013;&#25991;Windows%2098&#25805;&#20316;&#31995;&#32479;.ppt#1. &#31532;2&#31456;    &#20013;&#25991;Windows 98&#25805;&#20316;&#31995;&#32479;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2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3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4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5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6" Type="http://schemas.openxmlformats.org/officeDocument/2006/relationships/hyperlink" Target="file:///&#31532;3&#31456;%20%20%20%20&#25991;&#23383;&#22788;&#29702;&#31995;&#32479;Word%202000.ppt#1. &#31532;3&#31456;    &#25991;&#23383;&#22788;&#29702;&#31995;&#32479;Word 2000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2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3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4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5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6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7" Type="http://schemas.openxmlformats.org/officeDocument/2006/relationships/hyperlink" Target="file:///&#31532;4&#31456;%20%20%20%20&#30005;&#23376;&#34920;&#26684;%20Excel%202000.ppt#1. &#31532;4&#31456;    &#30005;&#23376;&#34920;&#26684; Excel 2000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2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3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4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5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6" Type="http://schemas.openxmlformats.org/officeDocument/2006/relationships/hyperlink" Target="file:///&#31532;5&#31456;%20%20%20%20&#20013;&#25991;&#28436;&#31034;&#36719;&#20214;PowerPoint%202000.ppt#1. &#31532;5&#31456;    &#20013;&#25991;&#28436;&#31034;&#36719;&#20214;PowerPoint 2000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4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5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6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7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8" Type="http://schemas.openxmlformats.org/officeDocument/2006/relationships/hyperlink" Target="file:///&#31532;6&#31456;%20%20%20%20Internet&#24212;&#29992;&#22522;&#30784;.ppt#1. &#31532;6&#31456;    Internet&#24212;&#29992;&#22522;&#30784;" TargetMode="External"/><Relationship Id="rId9" Type="http://schemas.openxmlformats.org/officeDocument/2006/relationships/slide" Target="slide4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4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ffff"/>
                </a:solidFill>
                <a:uFillTx/>
                <a:latin typeface="华文行楷"/>
                <a:ea typeface="华文行楷"/>
                <a:hlinkClick r:id="rId1"/>
              </a:rPr>
              <a:t>计算机文化基础教程_x000b_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Engravers MT"/>
                <a:ea typeface="华文行楷"/>
                <a:hlinkClick r:id="rId2"/>
              </a:rPr>
              <a:t>(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Engravers MT"/>
                <a:ea typeface="华文行楷"/>
                <a:hlinkClick r:id="rId3"/>
              </a:rPr>
              <a:t>Windows 98+Office 2000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Engravers MT"/>
                <a:ea typeface="华文行楷"/>
                <a:hlinkClick r:id="rId4"/>
              </a:rPr>
              <a:t>版)</a:t>
            </a:r>
            <a:endParaRPr b="1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04960" y="3276720"/>
            <a:ext cx="46479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主　编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唐伟奇　邓顺川　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副主编：刘　淳　陈　川　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袁晓红　王淑清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0" name="R03" descr=""/>
          <p:cNvPicPr/>
          <p:nvPr/>
        </p:nvPicPr>
        <p:blipFill>
          <a:blip r:embed="rId5"/>
          <a:stretch/>
        </p:blipFill>
        <p:spPr>
          <a:xfrm>
            <a:off x="2743200" y="3411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R03" descr=""/>
          <p:cNvPicPr/>
          <p:nvPr/>
        </p:nvPicPr>
        <p:blipFill>
          <a:blip r:embed="rId6"/>
          <a:stretch/>
        </p:blipFill>
        <p:spPr>
          <a:xfrm>
            <a:off x="274320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R03" descr=""/>
          <p:cNvPicPr/>
          <p:nvPr/>
        </p:nvPicPr>
        <p:blipFill>
          <a:blip r:embed="rId7"/>
          <a:stretch/>
        </p:blipFill>
        <p:spPr>
          <a:xfrm>
            <a:off x="2743200" y="4648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21</a:t>
            </a:r>
            <a:r>
              <a:rPr b="1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世纪高职高专新概念教材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6320" y="6400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3CD-72CB-4381-A2D2-F605089DA2E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40753-9B4C-41DC-B0A6-F3797EF8858B}" type="datetime1">
              <a:rPr lang="en-US"/>
              <a:t>07/29/26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Arial Black"/>
              </a:rPr>
              <a:t>目     录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    计算机基础知识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中文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Windows 98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操作系统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文字处理系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Word 2000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电子表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Excel 2000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中文演示软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PowerPoint 2000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应用基础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18120"/>
            <a:ext cx="678168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1"/>
              </a:rPr>
              <a:t>第1章    计算机基础知识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6738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1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概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2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字化信息编码与数据表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3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型计算机系统的组成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4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多媒体技术应用基础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5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算机数据的安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18120"/>
            <a:ext cx="777240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 Black"/>
                <a:ea typeface="黑体"/>
                <a:hlinkClick r:id="rId1"/>
              </a:rPr>
              <a:t>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2"/>
              </a:rPr>
              <a:t>2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3"/>
              </a:rPr>
              <a:t>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4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5"/>
              </a:rPr>
              <a:t>中文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6"/>
              </a:rPr>
              <a:t>Windows 98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  <a:ea typeface="黑体"/>
                <a:hlinkClick r:id="rId7"/>
              </a:rPr>
              <a:t>操作系统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概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基本知识与操作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资源管理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控制面板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的附件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6    Windows  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文输入法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541800"/>
            <a:ext cx="777240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1"/>
              </a:rPr>
              <a:t>第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3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5"/>
              </a:rPr>
              <a:t>文字处理系统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Word 2000 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8954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72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1    Word 200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概述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2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档的基本操作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3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档的排版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4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表格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5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高级排版操作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6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邮件合并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41800"/>
            <a:ext cx="739152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1"/>
              </a:rPr>
              <a:t>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4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5"/>
              </a:rPr>
              <a:t>电子表格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Excel 2000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220932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    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版的启动与退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创建表格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3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工作表的编辑和格式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4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创建图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5    Excel 2000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数据处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6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建立和编辑数据透视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7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页面设置和打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18120"/>
            <a:ext cx="7772400" cy="6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1"/>
              </a:rPr>
              <a:t>第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5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5"/>
              </a:rPr>
              <a:t>中文演示软件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PowerPoint 2000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57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.1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owerPoin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概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.2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owerPoin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演示文稿的创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.3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幻灯片的处理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.4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演示及打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0" y="3048120"/>
            <a:ext cx="3809880" cy="530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Arial Narrow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1  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计算机网络基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572000" y="3809880"/>
            <a:ext cx="3886200" cy="5270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2    Internet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基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4572000" y="5334120"/>
            <a:ext cx="3886200" cy="490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4    IE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浏览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1477800"/>
            <a:ext cx="64771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3"/>
              </a:rPr>
              <a:t>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/>
              </a:rPr>
              <a:t>6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5"/>
              </a:rPr>
              <a:t>章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6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Internet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8"/>
              </a:rPr>
              <a:t>应用基础</a:t>
            </a:r>
            <a:endParaRPr b="1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">
            <a:hlinkClick r:id="rId9" action="ppaction://hlinksldjump"/>
          </p:cNvPr>
          <p:cNvSpPr/>
          <p:nvPr/>
        </p:nvSpPr>
        <p:spPr>
          <a:xfrm>
            <a:off x="4572000" y="4572000"/>
            <a:ext cx="3886200" cy="5335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3  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接入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10" action="ppaction://hlinksldjump"/>
          </p:cNvPr>
          <p:cNvSpPr/>
          <p:nvPr/>
        </p:nvSpPr>
        <p:spPr>
          <a:xfrm>
            <a:off x="4572000" y="6019920"/>
            <a:ext cx="3886200" cy="4762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5  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电子邮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C38-B042-4EB0-9851-8EDDCE3573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89253-0D51-43A3-89EA-0A059253B8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Arial Black"/>
              </a:rPr>
              <a:t>欢迎您使用</a:t>
            </a:r>
            <a:endParaRPr b="1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30477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计算机文化基础教程</a:t>
            </a:r>
            <a:br>
              <a:rPr sz="3600"/>
            </a:br>
            <a:r>
              <a:rPr b="0" lang="zh-CN" sz="2800" spc="-1" strike="noStrike">
                <a:solidFill>
                  <a:srgbClr val="ffffff"/>
                </a:solidFill>
                <a:latin typeface="Engravers MT"/>
                <a:ea typeface="华文行楷"/>
              </a:rPr>
              <a:t>(Windows 98+Office 2000</a:t>
            </a:r>
            <a:r>
              <a:rPr b="0" lang="zh-CN" sz="2800" spc="-1" strike="noStrike">
                <a:solidFill>
                  <a:srgbClr val="ffffff"/>
                </a:solidFill>
                <a:latin typeface="Engravers MT"/>
                <a:ea typeface="华文行楷"/>
              </a:rPr>
              <a:t>版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">
            <a:hlinkClick r:id="" action="ppaction://hlinkshowjump?jump=endshow"/>
          </p:cNvPr>
          <p:cNvSpPr/>
          <p:nvPr/>
        </p:nvSpPr>
        <p:spPr>
          <a:xfrm>
            <a:off x="708660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45" h="21600">
                <a:moveTo>
                  <a:pt x="31271" y="10800"/>
                </a:moveTo>
                <a:lnTo>
                  <a:pt x="20766" y="17806"/>
                </a:lnTo>
                <a:lnTo>
                  <a:pt x="20766" y="3794"/>
                </a:lnTo>
                <a:close/>
              </a:path>
              <a:path fill="darken" w="55545" h="21600">
                <a:moveTo>
                  <a:pt x="33117" y="3794"/>
                </a:moveTo>
                <a:lnTo>
                  <a:pt x="33117" y="17806"/>
                </a:lnTo>
                <a:lnTo>
                  <a:pt x="34779" y="17806"/>
                </a:lnTo>
                <a:lnTo>
                  <a:pt x="34779" y="379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jf</cp:lastModifiedBy>
  <dcterms:modified xsi:type="dcterms:W3CDTF">2001-09-07T07:04:01Z</dcterms:modified>
  <cp:revision>9</cp:revision>
  <dc:subject/>
  <dc:title>PowerPoint 演示文稿</dc:title>
</cp:coreProperties>
</file>